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E5E9F-A2AD-4933-B003-B1CF0D325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A8FA8-EB4A-4985-B80F-023349D6D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54CE5-E371-4F8A-9A37-C9DD2020C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EADBD-F731-47B4-8B96-FBFDC2207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2DD53-6DFA-4137-ABA7-397651860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6759E-ECB7-4FBB-838B-C23EDC440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22E29-1D5C-4F8B-8D06-0D24B884E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E8B2B-7375-4731-B26D-506CD491D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14819-B8C4-4351-9FEE-E20B86F05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472F3-0C67-42E2-ABC4-BFEE5FF38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1F376-45B6-423C-98A8-A7EDF794B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96D20-F376-4144-B21E-48C93F869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11544-558E-4CEC-908F-D371C6F52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CC013-0F44-45C7-BDD0-42A683A7A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DD5BC-E1BE-4EC8-99B2-B5BE2C169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B87F58-3884-416F-A21A-128C85A55B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4CB7F6-46C3-43FB-907F-93FD27356E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2BA51-C22A-4F3A-AC4E-EF9CB1986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C630D-7DB6-4D3A-B0B1-BC3553D6C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EAE0B-2E82-43EB-B1ED-6D8A374FD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3AFED-CC42-4F14-9D52-C59B73AA5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24932-6283-441B-9770-F19CD3A38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A3124-29DA-4381-91B1-449CE1EC8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75CBE-3CB1-4D3C-90D1-0729A9CC1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E83B-5B17-4730-943B-775E57FDC766}"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0E01-814F-4709-B872-90FC28F43C75}"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Middle School iSquad Grades 6-8</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Measuring Shapes Using Geometer’s Sketchpad</a:t>
            </a:r>
            <a:endParaRPr b="1" lang="en-US" sz="40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9"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Many of you did a really good job.  Why don’t we share what we found out about making a triangle?  What advantages did you find in using this program? Who can share with the rest of the Squad some benefits of using Geometer’s Sketchpad?</a:t>
            </a:r>
            <a:endParaRPr b="0" lang="en-US" sz="3200" spc="-1" strike="noStrike">
              <a:solidFill>
                <a:srgbClr val="212164"/>
              </a:solidFill>
              <a:latin typeface="Arial"/>
            </a:endParaRPr>
          </a:p>
        </p:txBody>
      </p:sp>
      <p:sp>
        <p:nvSpPr>
          <p:cNvPr id="111"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3"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4"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76000"/>
          </a:bodyPr>
          <a:p>
            <a:pPr marL="260640" indent="-26064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rough animation, we can visually see some of the concepts of geometry.</a:t>
            </a:r>
            <a:endParaRPr b="0" lang="en-US" sz="3200" spc="-1" strike="noStrike">
              <a:solidFill>
                <a:srgbClr val="212164"/>
              </a:solidFill>
              <a:latin typeface="Arial"/>
            </a:endParaRPr>
          </a:p>
          <a:p>
            <a:pPr marL="260640" indent="-26064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Geometer’s Sketchpad makes learning geometry fun.  It allows us to construct geometric shapes with ease.  It also allows us to make simple measurements.  </a:t>
            </a:r>
            <a:endParaRPr b="0" lang="en-US" sz="3200" spc="-1" strike="noStrike">
              <a:solidFill>
                <a:srgbClr val="212164"/>
              </a:solidFill>
              <a:latin typeface="Arial"/>
            </a:endParaRPr>
          </a:p>
          <a:p>
            <a:pPr marL="260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260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260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0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0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26064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5"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animation help illustrate a simple geometric concept?</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y should we use Geometer’s Sketchpad as a tool to learn about Geometry?</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o can tell me what this simple animation illustrates?</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e will learn how to create an animated triangle and measure the angles.  This will allow us to answer this question.</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atch me as I show you how to draw a triangle and measure it on the Sketchpad software.  There are many steps involved in this process. We will plot the points on the canvas.  Next, we will draw the lines.  Lastly, we will use the measure menu to make the measurements.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it is your turn to construct a triangle and measure its angles.  Take some time to create the triangle  Draw in all the lines. Measure three angles and find the area.  In addition, take a measurement of the triangle’s perimeter.  What happens to the sum of the angles when you expand the perimeter and area?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You will be creating a triangle.  After you create the triangle, you will measure the three angles in a triangle.  You will measure the area and perimeter.  In addition, you will measure the sum of the angles using the calculate function on the Top menu.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ere are five basic steps I will show you.  You will follow these steps to complete the task.</a:t>
            </a:r>
            <a:endParaRPr b="0" lang="en-US" sz="3200" spc="-1" strike="noStrike">
              <a:solidFill>
                <a:srgbClr val="212164"/>
              </a:solidFill>
              <a:latin typeface="Arial"/>
            </a:endParaRPr>
          </a:p>
          <a:p>
            <a:pPr marL="609480" indent="-609480">
              <a:lnSpc>
                <a:spcPct val="90000"/>
              </a:lnSpc>
              <a:spcBef>
                <a:spcPts val="79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Create the Angle</a:t>
            </a:r>
            <a:endParaRPr b="0" lang="en-US" sz="3200" spc="-1" strike="noStrike">
              <a:solidFill>
                <a:srgbClr val="212164"/>
              </a:solidFill>
              <a:latin typeface="Arial"/>
            </a:endParaRPr>
          </a:p>
          <a:p>
            <a:pPr marL="609480" indent="-609480">
              <a:lnSpc>
                <a:spcPct val="90000"/>
              </a:lnSpc>
              <a:spcBef>
                <a:spcPts val="79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Sum of Angles in a Triangle</a:t>
            </a:r>
            <a:endParaRPr b="0" lang="en-US" sz="3200" spc="-1" strike="noStrike">
              <a:solidFill>
                <a:srgbClr val="212164"/>
              </a:solidFill>
              <a:latin typeface="Arial"/>
            </a:endParaRPr>
          </a:p>
          <a:p>
            <a:pPr marL="609480" indent="-609480">
              <a:lnSpc>
                <a:spcPct val="90000"/>
              </a:lnSpc>
              <a:spcBef>
                <a:spcPts val="79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Construct a Shape</a:t>
            </a:r>
            <a:endParaRPr b="0" lang="en-US" sz="3200" spc="-1" strike="noStrike">
              <a:solidFill>
                <a:srgbClr val="212164"/>
              </a:solidFill>
              <a:latin typeface="Arial"/>
            </a:endParaRPr>
          </a:p>
          <a:p>
            <a:pPr marL="609480" indent="-609480">
              <a:lnSpc>
                <a:spcPct val="90000"/>
              </a:lnSpc>
              <a:spcBef>
                <a:spcPts val="79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Measure the Perimeter and Area</a:t>
            </a:r>
            <a:endParaRPr b="0" lang="en-US" sz="3200" spc="-1" strike="noStrike">
              <a:solidFill>
                <a:srgbClr val="212164"/>
              </a:solidFill>
              <a:latin typeface="Arial"/>
            </a:endParaRPr>
          </a:p>
          <a:p>
            <a:pPr marL="609480" indent="-609480">
              <a:lnSpc>
                <a:spcPct val="90000"/>
              </a:lnSpc>
              <a:spcBef>
                <a:spcPts val="79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Animate a Shape</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8-05-09T12:34:04Z</dcterms:modified>
  <cp:revision>3</cp:revision>
  <dc:subject/>
  <dc:title>Workshop Title</dc:title>
</cp:coreProperties>
</file>